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A33-B20A-42C5-94A2-729EA46E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569-789B-4D5D-B404-41009A31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C83-69FE-4FD2-BD11-34CDB89C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876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80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876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80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A63-ECC2-4F64-A624-B7B84D25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710-EB58-413D-9738-65738D4E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1366-DF1E-484D-BAD0-B5F04376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7234-021C-47EC-89F3-C52053C1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0059-8F92-4FF9-80DB-DA9777F9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1C83-0F28-4174-A827-7C1F760C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561240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A89D-F907-49E4-A368-8643BE67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0AA7-AEE1-4FCB-AAF6-D79E3290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18D-12AC-4832-B462-1C367AA2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433E-D861-4F34-A4DA-944B0A7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FA98-F4E1-45F1-A602-9588117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AB28-9F32-4EA4-848F-65878EC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3CE2-AF94-4459-A8F2-3311DDA1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876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680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876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680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870A-0A37-4D66-B3CC-7412888A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71C-FD44-41D3-B43B-8B86F1EF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9BB-F4FE-4188-8E3D-2DF8A234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7CD-4AB7-44CE-957D-FD90C4E7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561240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0CE-90F5-44BE-9170-0DB13EA1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A12-0419-42B9-BA3A-977623C6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68B-A171-4F3B-8C88-3CE7F1A4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612-7E78-4BDD-BD46-FA86A593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AF1-7C1F-46BC-9868-057ABC163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AC05-F3BD-4199-9181-D4F48FFC3C2C}" type="slidenum">
              <a:rPr b="0" lang="en-US" sz="14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n.wikipedia.org/wiki/File:Burj_Khalifa_building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whm.org/online-exhibits/progressiveera/tenem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4956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97f"/>
                </a:solidFill>
                <a:latin typeface="Times New Roman"/>
              </a:rPr>
              <a:t>6.2:  I.  Problems of Urbanization</a:t>
            </a:r>
            <a:endParaRPr b="0" i="1" lang="en-US" sz="36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7760" y="54097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5050"/>
                </a:solidFill>
                <a:latin typeface="Times New Roman"/>
              </a:rPr>
              <a:t>Rapid growth of American cities lead to promise and problems of urbanization</a:t>
            </a: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F.  The Family Economy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working family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14" name="Picture 2" descr="http://4monroes.com/ssmfam10x6.jpg"/>
          <p:cNvPicPr/>
          <p:nvPr/>
        </p:nvPicPr>
        <p:blipFill>
          <a:blip r:embed="rId1"/>
          <a:stretch/>
        </p:blipFill>
        <p:spPr>
          <a:xfrm>
            <a:off x="1959120" y="1905120"/>
            <a:ext cx="6858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G.  Crime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114264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Increase population = increased  crime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Immigrants taken advantage of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Police dept. developed 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17" name="Picture 5" descr="http://ts1.mm.bing.net/images/thumbnail.aspx?q=1289949290332&amp;id=bd25888fa693860eb0b25965ea4f31de&amp;url=http%3a%2f%2fwww.onhgs.org%2fimages%2fwilmpolice1880b.jpg"/>
          <p:cNvPicPr/>
          <p:nvPr/>
        </p:nvPicPr>
        <p:blipFill>
          <a:blip r:embed="rId1"/>
          <a:stretch/>
        </p:blipFill>
        <p:spPr>
          <a:xfrm>
            <a:off x="2209680" y="3249720"/>
            <a:ext cx="5092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immigration4"/>
          <p:cNvPicPr/>
          <p:nvPr/>
        </p:nvPicPr>
        <p:blipFill>
          <a:blip r:embed="rId1"/>
          <a:stretch/>
        </p:blipFill>
        <p:spPr>
          <a:xfrm>
            <a:off x="2133720" y="1295280"/>
            <a:ext cx="4787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I.  Sanitation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Garbage on street a health  concer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1895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21" name="Picture 5" descr="http://www.banhdc.org/images/ch-hist-19711000-02.jpg"/>
          <p:cNvPicPr/>
          <p:nvPr/>
        </p:nvPicPr>
        <p:blipFill>
          <a:blip r:embed="rId1"/>
          <a:stretch/>
        </p:blipFill>
        <p:spPr>
          <a:xfrm>
            <a:off x="5235480" y="1981080"/>
            <a:ext cx="3886200" cy="298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Riss.WAringBeforeAfter.jpg"/>
          <p:cNvPicPr/>
          <p:nvPr/>
        </p:nvPicPr>
        <p:blipFill>
          <a:blip r:embed="rId2"/>
          <a:stretch/>
        </p:blipFill>
        <p:spPr>
          <a:xfrm>
            <a:off x="22320" y="4038480"/>
            <a:ext cx="5638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J.  Water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Needed to be clean and accessible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hlorination and filtratio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limits spread of disease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25" name="Picture 5" descr="http://ts2.mm.bing.net/images/thumbnail.aspx?q=1326868137949&amp;id=bb32735231b2798f2cae0ac15e9c68af&amp;url=http%3a%2f%2f5magazine.files.wordpress.com%2f2011%2f01%2fglass_of_alkaline_water_500x.jpg"/>
          <p:cNvPicPr/>
          <p:nvPr/>
        </p:nvPicPr>
        <p:blipFill>
          <a:blip r:embed="rId1"/>
          <a:stretch/>
        </p:blipFill>
        <p:spPr>
          <a:xfrm>
            <a:off x="2362320" y="3505320"/>
            <a:ext cx="4452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44956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97f"/>
                </a:solidFill>
                <a:latin typeface="Times New Roman"/>
              </a:rPr>
              <a:t>II.  Political Machines…</a:t>
            </a:r>
            <a:endParaRPr b="0" i="1" lang="en-US" sz="44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776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are running the cities”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A.  Political Machine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Informal political group designed to gain and keep power.  Ran by a “party boss”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ammany Hall:  NY Democratic political machine led by “Boss” Tweed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Graft: took bribe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Political Machine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Helped government               officials/themselves                                 get elected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Helped immigrants                                   get jobs, homes in                                 return for vote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32" name="Picture 5" descr="02%20Thats%20Whats%20the%20Matter"/>
          <p:cNvPicPr/>
          <p:nvPr/>
        </p:nvPicPr>
        <p:blipFill>
          <a:blip r:embed="rId1"/>
          <a:stretch/>
        </p:blipFill>
        <p:spPr>
          <a:xfrm>
            <a:off x="5214960" y="1066680"/>
            <a:ext cx="392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Thomas Nast – Political Cartoonist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pic>
        <p:nvPicPr>
          <p:cNvPr id="134" name="Picture 3" descr="01%20Under%20the%20Thumb"/>
          <p:cNvPicPr/>
          <p:nvPr/>
        </p:nvPicPr>
        <p:blipFill>
          <a:blip r:embed="rId1"/>
          <a:stretch/>
        </p:blipFill>
        <p:spPr>
          <a:xfrm>
            <a:off x="2133720" y="533520"/>
            <a:ext cx="5283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A.  Urban Opportunity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Urbanization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Rapid growth of a city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ho moved into the cities?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Immigrant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Rural American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hy the cities?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Cheap and convenient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job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Cultural diversity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B.  Changing Citie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380880"/>
            <a:ext cx="5790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Building up instead of out = ?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hicago the first skyscraper w/ Home Ins. Building, 1885 10 stories!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88" name="Picture 5" descr="1"/>
          <p:cNvPicPr/>
          <p:nvPr/>
        </p:nvPicPr>
        <p:blipFill>
          <a:blip r:embed="rId1"/>
          <a:stretch/>
        </p:blipFill>
        <p:spPr>
          <a:xfrm>
            <a:off x="2895480" y="3276720"/>
            <a:ext cx="2492640" cy="258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"/>
          <p:cNvPicPr/>
          <p:nvPr/>
        </p:nvPicPr>
        <p:blipFill>
          <a:blip r:embed="rId2"/>
          <a:stretch/>
        </p:blipFill>
        <p:spPr>
          <a:xfrm>
            <a:off x="5867280" y="2971800"/>
            <a:ext cx="1749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680" y="533160"/>
            <a:ext cx="3810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Chicago, 1884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183 ft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28840" y="45684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Dubai, 2009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2,717 ft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93" name="Picture 7" descr="2"/>
          <p:cNvPicPr/>
          <p:nvPr/>
        </p:nvPicPr>
        <p:blipFill>
          <a:blip r:embed="rId1"/>
          <a:stretch/>
        </p:blipFill>
        <p:spPr>
          <a:xfrm>
            <a:off x="1566720" y="1012680"/>
            <a:ext cx="3065760" cy="500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upload.wikimedia.org/wikipedia/en/thumb/2/2f/Burj_Khalifa_building.jpg/180px-Burj_Khalifa_buildin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1050840"/>
            <a:ext cx="33354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C.  Transportation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5120" y="1066680"/>
            <a:ext cx="5790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Development public transportation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Horse car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Street car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L/Subway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Benefits?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97" name="Picture 5" descr="cctrolley"/>
          <p:cNvPicPr/>
          <p:nvPr/>
        </p:nvPicPr>
        <p:blipFill>
          <a:blip r:embed="rId1"/>
          <a:stretch/>
        </p:blipFill>
        <p:spPr>
          <a:xfrm>
            <a:off x="5410080" y="4267080"/>
            <a:ext cx="3448080" cy="21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nostalg5"/>
          <p:cNvPicPr/>
          <p:nvPr/>
        </p:nvPicPr>
        <p:blipFill>
          <a:blip r:embed="rId2"/>
          <a:stretch/>
        </p:blipFill>
        <p:spPr>
          <a:xfrm>
            <a:off x="1600200" y="3886200"/>
            <a:ext cx="3657600" cy="264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ttp://www.cable-car-guy.com/images/last_horse_car_001.jpg"/>
          <p:cNvPicPr/>
          <p:nvPr/>
        </p:nvPicPr>
        <p:blipFill>
          <a:blip r:embed="rId3"/>
          <a:stretch/>
        </p:blipFill>
        <p:spPr>
          <a:xfrm>
            <a:off x="5194440" y="1676520"/>
            <a:ext cx="387972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D. Separation by Clas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High Society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Built wherever they wanted; spared no expense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House servant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Middle Clas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Moved to suburb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Professionals: doctors, lawyers, etc.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Working clas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Lived in tenement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Rented space to supplement income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D. Separation by Clas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066320"/>
            <a:ext cx="5790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Times New Roman"/>
                <a:hlinkClick r:id="rId1"/>
              </a:rPr>
              <a:t>http://www.nwhm.org/online-exhibits/progressiveera/teneme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interiors.htm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04" name="Picture 4" descr="http://ts4.mm.bing.net/images/thumbnail.aspx?q=1337514206967&amp;id=b26ba8db3511c7748e575262609d011d&amp;url=http%3a%2f%2fgraphics8.nytimes.com%2fimages%2f2009%2f09%2f15%2fnyregion%2f15landmarks4-cityroom%2fblogSpan.jpg"/>
          <p:cNvPicPr/>
          <p:nvPr/>
        </p:nvPicPr>
        <p:blipFill>
          <a:blip r:embed="rId2"/>
          <a:stretch/>
        </p:blipFill>
        <p:spPr>
          <a:xfrm>
            <a:off x="1447920" y="2057400"/>
            <a:ext cx="3962160" cy="224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ts2.mm.bing.net/images/thumbnail.aspx?q=1263567311093&amp;id=1e2b5edd992c6127ea84045ebf92795b&amp;url=http%3a%2f%2fmedia.salesaspects.com%2fsalesaspects%2fCore%2f41%2fPersonnel%2f848%2fImageLibrary%2f1419%2520Cass%2520Street-Front%25201.jpg"/>
          <p:cNvPicPr/>
          <p:nvPr/>
        </p:nvPicPr>
        <p:blipFill>
          <a:blip r:embed="rId3"/>
          <a:stretch/>
        </p:blipFill>
        <p:spPr>
          <a:xfrm>
            <a:off x="5238720" y="152280"/>
            <a:ext cx="390528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nwhm.org/media/category/exhibits/progressiveera/tenement1.jpg"/>
          <p:cNvPicPr/>
          <p:nvPr/>
        </p:nvPicPr>
        <p:blipFill>
          <a:blip r:embed="rId4"/>
          <a:stretch/>
        </p:blipFill>
        <p:spPr>
          <a:xfrm>
            <a:off x="5270400" y="3505320"/>
            <a:ext cx="34290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E.  Neighborhood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09" name="Picture 4" descr="immigration ethic seg"/>
          <p:cNvPicPr/>
          <p:nvPr/>
        </p:nvPicPr>
        <p:blipFill>
          <a:blip r:embed="rId1"/>
          <a:stretch/>
        </p:blipFill>
        <p:spPr>
          <a:xfrm>
            <a:off x="2946240" y="892080"/>
            <a:ext cx="325152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F.  The Family Economy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White native-born men earned more 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In most cases, entire family worked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White native-born women = more educated 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eachers, clerical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*domestic service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Elderly and disabled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6:49:01Z</dcterms:created>
  <dc:creator>School District U46</dc:creator>
  <dc:description/>
  <cp:keywords/>
  <dc:language>en-US</dc:language>
  <cp:lastModifiedBy>SUPER</cp:lastModifiedBy>
  <dcterms:modified xsi:type="dcterms:W3CDTF">2011-10-16T23:08:01Z</dcterms:modified>
  <cp:revision>21</cp:revision>
  <dc:subject/>
  <dc:title>7.2:  Problems of Urban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41033</vt:lpwstr>
  </property>
</Properties>
</file>